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6B4DF-2EF2-45E0-AC8B-C2CA9C149DFE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2BAC2-E3EF-48D6-BAE6-A5E58730998C}" type="slidenum">
              <a:rPr b="0" lang="en-A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6D3F-DA77-4120-B4A3-101542C30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BF81-2FD0-4A80-A279-52B9A3B6C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47CB-A411-4B96-AC95-1283F14B1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5652-7C95-4D34-848A-009FC8C51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E76BD-961D-4F0A-8802-A7EE14600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956F3-89F1-4885-A328-BF6845F34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9C008-E734-4634-B0B9-7C4631AE6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B1E82-B49B-4C68-A1E0-C058473C9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30875-606D-48DB-AD07-D6FEBF4D1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40703-C6EA-4B52-9772-BF212EB27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4D0DB-8F0A-47B2-B2D5-FE513C36D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EA64-46BE-42C3-B153-5BD076B10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3C446-14C7-418B-9668-91C72977A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82CFA-F469-42F2-8025-6EF79447A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305D2-C7FC-4126-A34B-A30983C90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88347-AB23-41A7-BF4F-AA6DA665A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C130C-3357-43B5-BEA2-9863A2FE3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46291-8A82-4215-BC02-587973803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38C11-D6FE-498E-A30F-C6FE6C3DE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567D0-6E63-4C02-B452-AE84A4B70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130D4-ED2C-4968-B8F9-8BB155119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3F3DB-FCD7-4711-A381-ADA0E6A38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B2B3-E171-48E2-B01E-054A42CF2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18437-C482-4FCF-9727-B07D5F18D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B9097-BF6E-4588-8F05-84DB42FF3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03166-70E9-4F06-ADFE-A180EA7C0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82F7D-3FA7-4FDE-B465-03C729AB3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7FF1B-0DC4-47F6-A9EB-7E060B84C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E797C-6E46-4AEE-95F0-66859F542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87F77-07A6-4D6C-8AC3-DB05176C9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00C01-D4BF-4080-9E95-D16049AC0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0ACBE-590B-42C7-8FC1-FAD995AD5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FA9669-7520-4838-83A5-DEA4C1487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F113-92D2-4D64-A30C-19319E5FB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1FD30-D640-4E26-992A-91672A3DB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92439-B29D-4CC5-A2E6-35FE14EE0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773C88-6356-42DB-B038-A3099BDCD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F7A49-E981-433C-BC49-A98670ADF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ABB55-BBFF-4B29-B7CA-466F0C33A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5855F-AEA0-42C2-8C99-CAD2E3631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32CCD1-27C9-4C9C-B1D6-D1D361A0C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C14D1-69C1-4094-9289-5844F9FED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FE76C-7BB2-4028-8133-BAEA54F03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4E51A4-0D47-4846-B725-FFB7761E7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576F-A7BC-4254-AF47-01AD9C736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219E43-A8A6-4D34-99D4-D8BF4095A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DB1DF-9EAC-477C-A37C-1A9768539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1592D5-287B-490B-9E20-D67FBF09F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52B336-432C-4F0F-955A-E91844D53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3A286E-E029-4EF2-899D-889AF20E4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303DFE-C6A9-4B40-866A-91CE9DAE3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EF69F1-A41A-4A05-B187-FCD0455C1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1C40B6-3E8B-4515-82E4-10EAEB7C5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2F1103-615A-4868-9BA9-678CADF89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64B86A-132F-45D6-9203-F3E4F2BD3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0F55-5224-4FC9-A6C4-11732DB31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5EF78B-4F56-4B10-9262-633919166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5E93C4-A8BE-423D-8BE0-9A95E71A9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34096A-E59F-44F3-9959-41ABF68FC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F0093A-F535-46ED-89B7-74EA435A1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504075-BF64-4681-83EF-75E4A86D1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5CC239-6F95-41ED-8E29-E64B3CF39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4103DF-CB28-46C0-A412-443EA9C5D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25728E-F949-48C4-9E0D-E0FF4649E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AEB9CC-7138-459C-951A-2CB9DFD4B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B7ACFA-4B3F-4F1A-B061-E7C6AD709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7751-FE0A-4606-98E5-02DBDDEF3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A6B8A7-2E08-4959-BCD4-935F229BD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85780F-4956-4736-BC0C-AE05348C8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1BFCD8-E3CD-4EBC-8DA3-3AF7EFEB3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AA31-C541-4EF0-BAEC-51F49A23E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3439-EEB8-48B6-A74B-73C7DC9E5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2B6C2-66C8-4138-9B8A-B09E37210BE0}" type="slidenum">
              <a:rPr b="0" lang="en-A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3DF39-732B-4F50-B858-7391A53CEB7F}" type="slidenum">
              <a:rPr b="0" lang="en-A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A092C-E203-4508-8104-37A55ED73AD1}" type="slidenum">
              <a:rPr b="0" lang="en-A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21BDF-784A-4736-9F45-FDC05619B1F3}" type="slidenum">
              <a:rPr b="0" lang="en-A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C9DB7-6BDD-4BE6-928E-6F444C2F70F7}" type="slidenum">
              <a:rPr b="0" lang="en-A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4FF54-AB0C-405D-9A20-CFBCFD6592EF}" type="slidenum">
              <a:rPr b="0" lang="en-A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0" y="0"/>
            <a:ext cx="8501040" cy="650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000" spc="-1" strike="noStrike">
                <a:solidFill>
                  <a:srgbClr val="ffffff"/>
                </a:solidFill>
                <a:latin typeface="Arial"/>
              </a:rPr>
              <a:t>When you go to Iceland you will be entertained and amazed by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000" spc="-1" strike="noStrike">
                <a:solidFill>
                  <a:srgbClr val="ffffff"/>
                </a:solidFill>
                <a:latin typeface="Arial"/>
              </a:rPr>
              <a:t>Geyser water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000" spc="-1" strike="noStrike">
                <a:solidFill>
                  <a:srgbClr val="ffffff"/>
                </a:solidFill>
                <a:latin typeface="Arial"/>
              </a:rPr>
              <a:t>Gullfoss waterfall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000" spc="-1" strike="noStrike">
                <a:solidFill>
                  <a:srgbClr val="ffffff"/>
                </a:solidFill>
                <a:latin typeface="Arial"/>
              </a:rPr>
              <a:t>The Northern light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000" spc="-1" strike="noStrike">
                <a:solidFill>
                  <a:srgbClr val="ffffff"/>
                </a:solidFill>
                <a:latin typeface="Arial"/>
              </a:rPr>
              <a:t>Icelandic troll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000" spc="-1" strike="noStrike">
                <a:solidFill>
                  <a:srgbClr val="ffffff"/>
                </a:solidFill>
                <a:latin typeface="Arial"/>
              </a:rPr>
              <a:t>Reykjavik the capital city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000" spc="-1" strike="noStrike">
                <a:solidFill>
                  <a:srgbClr val="ffffff"/>
                </a:solidFill>
                <a:latin typeface="Arial"/>
              </a:rPr>
              <a:t>The blue lagoon open all year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000" spc="-1" strike="noStrike">
                <a:solidFill>
                  <a:srgbClr val="ffffff"/>
                </a:solidFill>
                <a:latin typeface="Arial"/>
              </a:rPr>
              <a:t>Thingvellir (national park.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000" spc="-1" strike="noStrike">
                <a:solidFill>
                  <a:srgbClr val="ffffff"/>
                </a:solidFill>
                <a:latin typeface="Arial"/>
              </a:rPr>
              <a:t>Vatnajokull glacier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000" spc="-1" strike="noStrike">
                <a:solidFill>
                  <a:srgbClr val="ffffff"/>
                </a:solidFill>
                <a:latin typeface="Arial"/>
              </a:rPr>
              <a:t>Volcano Hekla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000" spc="-1" strike="noStrike">
                <a:solidFill>
                  <a:srgbClr val="ffffff"/>
                </a:solidFill>
                <a:latin typeface="Arial"/>
              </a:rPr>
              <a:t>And Volcano hikes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643440" y="-360"/>
            <a:ext cx="25002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600" spc="-1" strike="noStrike">
                <a:solidFill>
                  <a:srgbClr val="ff0000"/>
                </a:solidFill>
                <a:latin typeface="Franklin Gothic Book"/>
              </a:rPr>
              <a:t>map</a:t>
            </a:r>
            <a:endParaRPr b="0" lang="en-US" sz="8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9" name="Content Placeholder 3" descr="map_of_iceland[1].jpg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600" spc="-1" strike="noStrike">
                <a:solidFill>
                  <a:srgbClr val="ffffff"/>
                </a:solidFill>
                <a:latin typeface="Franklin Gothic Book"/>
              </a:rPr>
              <a:t>The capital city Reykjavik.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000" spc="-1" strike="noStrike">
                <a:solidFill>
                  <a:srgbClr val="ffffff"/>
                </a:solidFill>
                <a:latin typeface="Arial"/>
              </a:rPr>
              <a:t>The capital city Reykjavik  has a population of 199,000 with nearby communities. Reykjavik is the country’s capital and the heart of the current Icelandic society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000" spc="-1" strike="noStrike">
                <a:solidFill>
                  <a:srgbClr val="ffffff"/>
                </a:solidFill>
                <a:latin typeface="Arial"/>
              </a:rPr>
              <a:t>The  old town centre contains some charming buildings dating back to the 18</a:t>
            </a:r>
            <a:r>
              <a:rPr b="1" lang="en-AU" sz="3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AU" sz="3000" spc="-1" strike="noStrike">
                <a:solidFill>
                  <a:srgbClr val="ffffff"/>
                </a:solidFill>
                <a:latin typeface="Arial"/>
              </a:rPr>
              <a:t> and 19</a:t>
            </a:r>
            <a:r>
              <a:rPr b="1" lang="en-AU" sz="3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AU" sz="3000" spc="-1" strike="noStrike">
                <a:solidFill>
                  <a:srgbClr val="ffffff"/>
                </a:solidFill>
                <a:latin typeface="Arial"/>
              </a:rPr>
              <a:t> centuries presenting good examples of the history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600" spc="-1" strike="noStrike">
                <a:solidFill>
                  <a:srgbClr val="ffffff"/>
                </a:solidFill>
                <a:latin typeface="Franklin Gothic Book"/>
              </a:rPr>
              <a:t>Interesting facts 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000" spc="-1" strike="noStrike">
                <a:solidFill>
                  <a:srgbClr val="ffffff"/>
                </a:solidFill>
                <a:latin typeface="Arial"/>
              </a:rPr>
              <a:t>About7250km is covered with glacier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000" spc="-1" strike="noStrike">
                <a:solidFill>
                  <a:srgbClr val="ffffff"/>
                </a:solidFill>
                <a:latin typeface="Arial"/>
              </a:rPr>
              <a:t>The average temperature is 5 c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000" spc="-1" strike="noStrike">
                <a:solidFill>
                  <a:srgbClr val="ffffff"/>
                </a:solidFill>
                <a:latin typeface="Arial"/>
              </a:rPr>
              <a:t>Iceland has NO army, navy or air forc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000" spc="-1" strike="noStrike">
                <a:solidFill>
                  <a:srgbClr val="ffffff"/>
                </a:solidFill>
                <a:latin typeface="Arial"/>
              </a:rPr>
              <a:t>Their economy is heavily dependent upon fish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000" spc="-1" strike="noStrike">
                <a:solidFill>
                  <a:srgbClr val="ffffff"/>
                </a:solidFill>
                <a:latin typeface="Arial"/>
              </a:rPr>
              <a:t>Life expectancy is -81 for women and 76 for men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600" spc="-1" strike="noStrike">
                <a:solidFill>
                  <a:srgbClr val="ffffff"/>
                </a:solidFill>
                <a:latin typeface="Franklin Gothic Book"/>
              </a:rPr>
              <a:t>flight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000" spc="-1" strike="noStrike">
                <a:solidFill>
                  <a:srgbClr val="ffffff"/>
                </a:solidFill>
                <a:latin typeface="Arial"/>
              </a:rPr>
              <a:t>Leave Melbourne on Saturday 29.8. 09 to London. Time  Leave 3:30 pm Arrive at 5:25. Price: $42050 or 85000 euro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AU" sz="3000" spc="-1" strike="noStrike">
                <a:solidFill>
                  <a:srgbClr val="ffffff"/>
                </a:solidFill>
                <a:latin typeface="Arial"/>
              </a:rPr>
              <a:t>Leave London to Reykjavik on Tuesday 1.9 at 11:30am and arrive at 1:10pm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AU" sz="3000" spc="-1" strike="noStrike">
                <a:solidFill>
                  <a:srgbClr val="ffffff"/>
                </a:solidFill>
                <a:latin typeface="Arial"/>
              </a:rPr>
              <a:t>Price: $340 or 975 euro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600" spc="-1" strike="noStrike">
                <a:solidFill>
                  <a:srgbClr val="ffffff"/>
                </a:solidFill>
                <a:latin typeface="Franklin Gothic Book"/>
              </a:rPr>
              <a:t>Accommodation 1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000" spc="-1" strike="noStrike">
                <a:solidFill>
                  <a:srgbClr val="ffffff"/>
                </a:solidFill>
                <a:latin typeface="Arial"/>
              </a:rPr>
              <a:t>Reykjavik 4 you apartment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000" spc="-1" strike="noStrike">
                <a:solidFill>
                  <a:srgbClr val="ffffff"/>
                </a:solidFill>
                <a:latin typeface="Arial"/>
              </a:rPr>
              <a:t>Close to the main shop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000" spc="-1" strike="noStrike">
                <a:solidFill>
                  <a:srgbClr val="ffffff"/>
                </a:solidFill>
                <a:latin typeface="Arial"/>
              </a:rPr>
              <a:t>Brand new luxury apartment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000" spc="-1" strike="noStrike">
                <a:solidFill>
                  <a:srgbClr val="ffffff"/>
                </a:solidFill>
                <a:latin typeface="Arial"/>
              </a:rPr>
              <a:t>And FREE PARKING!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000" spc="-1" strike="noStrike">
                <a:solidFill>
                  <a:srgbClr val="ffffff"/>
                </a:solidFill>
                <a:latin typeface="Arial"/>
              </a:rPr>
              <a:t>Price: $250 per nigh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600" spc="-1" strike="noStrike">
                <a:solidFill>
                  <a:srgbClr val="ffffff"/>
                </a:solidFill>
                <a:latin typeface="Franklin Gothic Book"/>
              </a:rPr>
              <a:t>Accommodation 2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785520"/>
            <a:ext cx="9144000" cy="60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Arial"/>
              </a:rPr>
              <a:t>Hotel Or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ddress: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Breidumork 1c 810 Reykjavi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otel Ork Is a very pretty place to stay the is in a good position to see the northern light.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otel Ork is located in natural surroundings, on the outskirts of the village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ROOM AMENITI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* 85 spacious and well furnished twin rooms offer guests private bath, mini-bar, telephone and a TV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ice: $650 per night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600" spc="-1" strike="noStrike">
                <a:solidFill>
                  <a:srgbClr val="ffffff"/>
                </a:solidFill>
                <a:latin typeface="Franklin Gothic Book"/>
              </a:rPr>
              <a:t>Accommodation 3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500040" y="107136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otel Hilton 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KING SUIT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poil yourself in this spacious 60m²/646sq.ft suite with Executive Lounge access and views of Reykjavik Bay and Mount Esja. The elegant suite in cool, calm tones has 1 king bed and separate living room. Work in comfort at the desk, surf the web with high-speed internet access or recline on the sofa to watch DVD's on the TV. Sleeps 2 adult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ice $1,000 per nigh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600" spc="-1" strike="noStrike">
                <a:solidFill>
                  <a:srgbClr val="ffffff"/>
                </a:solidFill>
                <a:latin typeface="Franklin Gothic Book"/>
              </a:rPr>
              <a:t>Festival 1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n June - Sailors Day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t’s the only day when every ship in Iceland is in harbor, and all the sailors have a day off. Boats and ships of all sizes come into port carrying sailors eager to try their hands at strongman competitions and rowing competitions between ship crews and companies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600" spc="-1" strike="noStrike">
                <a:solidFill>
                  <a:srgbClr val="ffffff"/>
                </a:solidFill>
                <a:latin typeface="Franklin Gothic Book"/>
              </a:rPr>
              <a:t>Festival 2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August - Unglist – Young Art Festiv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glist, the art festival of young people, has been a yearly event  in Reykjavik since 1992. The program consists of music, design, fashion, photography, paintings and theatre just to mention a few. Young art’s main purpose is to give all culture's dark corners a chance to shine and get their art into the public spotligh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04:47:21Z</dcterms:created>
  <dc:creator>Education</dc:creator>
  <dc:description/>
  <dc:language>en-US</dc:language>
  <cp:lastModifiedBy>Education</cp:lastModifiedBy>
  <dcterms:modified xsi:type="dcterms:W3CDTF">2009-08-27T08:38:29Z</dcterms:modified>
  <cp:revision>33</cp:revision>
  <dc:subject/>
  <dc:title>Slide 1</dc:title>
</cp:coreProperties>
</file>